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9B6-F6C7-4F84-9B91-D005A604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AEC-3084-4206-96CF-5333061D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9BF-C664-469A-AA8F-56AC4A3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4B5-EE7D-4485-9416-0ED757DA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2DB-3342-428B-9016-E3168307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03D-A99D-4369-8157-708A2B20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216-6353-49E0-B33F-08A295B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C00-6C61-4930-A87B-B2309E8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03E-1FF0-4748-8341-28BFE59F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CB5-055B-48A9-BED0-247A0F7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9A5-1E89-4FFC-BDD5-9A779ED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C05-3850-43FA-8E4F-A57A84C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4880" indent="-3394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7400" indent="-3394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2120" indent="-3016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5450-5B02-4569-8001-E2CF359CDCC8}" type="slidenum">
              <a:rPr b="1" lang="it-IT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8900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9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Informatica per le Scienze Umane</a:t>
            </a:r>
            <a:br>
              <a:rPr sz="4000"/>
            </a:br>
            <a:r>
              <a:rPr b="0" i="1" lang="it-IT" sz="3600" spc="-1" strike="noStrike">
                <a:solidFill>
                  <a:srgbClr val="ffcc99"/>
                </a:solidFill>
                <a:latin typeface="Arial Unicode MS"/>
              </a:rPr>
              <a:t>laboratorio</a:t>
            </a:r>
            <a:endParaRPr b="0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Modelli dei dati per le Scienze Uma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lessandro Lenc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ipartimento di Linguistica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80755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testua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sti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ggio scri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bri (saggistica, narrativa, poesia, ecc.), giornali, riviste, pagine Web, lettere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oduzioni “effimere”: e-mail, inserzioni pubblicitarie, chat, volantini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ggio parlato trascri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otiziari radio-televisiv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ntervis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versazioni telefoniche, conversazioni faccia-a-faccia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909800"/>
            <a:ext cx="8610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corpus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è una raccolta di testi selezionati e organizzati secondo espliciti criteri e scopi (analisi linguistica, studi letterari, ec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elettronic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avvento dell’era informatica ha  rivoluzionato la natura, ruolo e uso dei corpor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computer permette di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immagazzi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quantità di dati testuali prima inimmaginabi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interrog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n maniera avanzata il contenuto del corp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piere nuove forme di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elabor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omput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i dati linguis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4800600"/>
            <a:ext cx="7696080" cy="79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rpus = corpus elettro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testi sono in formato digital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machine-readab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non digita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477120" cy="28843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1219320" y="5943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5867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94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5440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54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943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5516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410080"/>
            <a:ext cx="6629400" cy="99072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571500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752480" y="3200400"/>
            <a:ext cx="1219320" cy="2743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238880" y="4876560"/>
            <a:ext cx="0" cy="5331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3885840"/>
            <a:ext cx="1524240" cy="198108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905120" y="4114800"/>
            <a:ext cx="4572000" cy="1905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800600" y="4343040"/>
            <a:ext cx="914400" cy="106668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5715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60958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553080" y="121932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69080" y="685800"/>
            <a:ext cx="14749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machin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readab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286000"/>
            <a:ext cx="64008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Oggi a Bruxelles vertice della Ue sull'IRAQ. Blair scrive agli altri per chiedere una posizione co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La NATO in difesa della 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ccordo in extremis sull'aiuto all' alleato in prima 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L NOSTRO CORRISPONDENTE FRANCO PAPI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BRUXELLES — Tutti bloccati per una giornata intera dal piccolo Belg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Sembrava disponibile l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ia e taceva la Germania; a quel punto Lord Robertson, il Segretario generale della Nato,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tentava il grande colpo per chiudere finalmente, con una decisione sul sostegno alla 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638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5638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513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105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563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105520"/>
            <a:ext cx="6629400" cy="9903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541008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410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524240" cy="1284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10800000">
            <a:off x="6324480" y="11430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001000" y="33526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e metatesto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achine readab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86000"/>
            <a:ext cx="6553440" cy="265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Oggi a Bruxelles vertice della Ue sull'IRAQ. Blair scrive agli altri per chiedere una posizione co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title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La NATO in difesa della Turchi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subtitle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ccordo in extremis sull'aiuto all' alleato in prima line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sub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L NOSTRO CORRISPONDENTE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author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O PAPITTO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p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BRUXELLES — Tutti bloccati per una giornata intera dal piccolo Belgio.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p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Sembrava disponibile l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ia e taceva la Germania; a quel punto Lord Robertson, il Segretario generale della Nato,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tentava il grande colpo per chiudere finalmente, con una decisione sul sostegno alla Turchi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638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5638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513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105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563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5105520"/>
            <a:ext cx="6629400" cy="9903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48720" y="541008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5410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524240" cy="128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rot="10800000">
            <a:off x="6324480" y="11430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447920" y="2895480"/>
            <a:ext cx="304560" cy="2743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895480" y="3428640"/>
            <a:ext cx="76320" cy="21337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276360" y="3962160"/>
            <a:ext cx="1447560" cy="11430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648320" y="3580920"/>
            <a:ext cx="2209680" cy="2057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terpretazione e codific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30412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626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Arial"/>
              </a:rPr>
              <a:t>Interpretazione del testo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formazioni metatestuali che caratterizzano la struttura, contenuto, presentazione, natura linguistica, ecc. di un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sistono vari livelli e gradi di interpretazi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pografica, ortografica, extratestuale, linguistica, ec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81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Arial"/>
              </a:rPr>
              <a:t>Codifica del testo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ocesso attraverso cui viene resa esplicita un’interpretazione del testo con l’assegnazione (al testo e alle sue parti) di codici metatestual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a codifica permette di rendere </a:t>
            </a:r>
            <a:r>
              <a:rPr b="0" lang="it-IT" sz="1600" spc="-1" strike="noStrike">
                <a:solidFill>
                  <a:srgbClr val="ff6600"/>
                </a:solidFill>
                <a:latin typeface="Arial"/>
              </a:rPr>
              <a:t>machine readab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formazioni sul testo e tratti del testo che altrimenti non sarebbero elaborabili dal comp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334120"/>
            <a:ext cx="8229600" cy="10123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corpus = testi + codi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n corpus è un insieme di testi machine readable in cui l’informazione relativa ad una data interpretazione dei testi è stata esplicitamente codif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a codificar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124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Informazione extra-testua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ipo del corpus e del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rigine del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lloc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mmenti descrittivi sul contenu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eperibilità dell’origi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sa editrice, edizione, ec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odalità di trascrizione (parla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umero e identità dei partecipanti (parla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124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Informazione struttura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rticolazione del testo e delle sue par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toli, sottotitoli, sezioni, paragrafi, ec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dascalie, figure, e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a codificar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992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3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nformazione ortograf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inguaggio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difica dei caratteri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nomeni paralinguistici (parla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ause, esitazioni, colpi di tosse, variazioni del tono di voce, ec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nformazione linguist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orfosintattica, sintattica, semantica, prosodica, pragmatica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15772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33"/>
                </a:solidFill>
                <a:latin typeface="Arial"/>
              </a:rPr>
              <a:t>La codifica esplicita di un testo con informazioni relative alla sua struttura linguistica viene detta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annotazione del 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annot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12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Annotare un corpu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giungere ad un testo codici che rendono esplicita e “machine readable”  l’informazione relativa alla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struttura linguistic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l tes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048120"/>
            <a:ext cx="8610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lnSpc>
                <a:spcPct val="100000"/>
              </a:lnSpc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ari livelli di annotazione linguist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orfosint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emmat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int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eman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net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sod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agmat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corpora non annotati vengono anche detti “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aw cor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erché annotare un corpus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04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corpora annotati permettono di usare il computer per ricerche ed elaborazioni più avanzate dei dati linguistic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666880"/>
            <a:ext cx="86868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ggi 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Bruxelles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ertice del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istituzione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U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ull‘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RAQ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persona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Blair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scrivere” cat=“V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criv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agli altri per chiedere una posizione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comune” cat=“A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mun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istituzione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AT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in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difesa” cat=“S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ifesa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del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urchia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accordo” cat=“S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Accordo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in extremis sull'aiuto all' alleato in prima 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L NOSTRO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corrispondente” cat=“S”&gt;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RRISPONDENT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Franco” cat=“SP” sem=“persona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FRANCO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PAPI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5334120"/>
            <a:ext cx="884160" cy="98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16200000">
            <a:off x="1904760" y="49528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4876920"/>
            <a:ext cx="3505320" cy="144864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Ricerche p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le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categoria morfosintat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categoria seman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lassi e Associazioni in UM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las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ttributi (proprietà rilevan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ardinalità dei valori degli attribut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ssociazion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rdinalità (delle classi associ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in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assima (determina il tipo dell’associazion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B: le associazioni non possono avere attribu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lassi associat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ervono per esprimere attributi (proprietà) di un’associ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876920"/>
            <a:ext cx="83844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4876920"/>
            <a:ext cx="1219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CasaEdit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7" idx="3"/>
            <a:endCxn id="88" idx="1"/>
          </p:cNvCxnSpPr>
          <p:nvPr/>
        </p:nvCxnSpPr>
        <p:spPr>
          <a:xfrm>
            <a:off x="2833560" y="5181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297180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638680"/>
            <a:ext cx="12952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Pubbl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1295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5181480"/>
            <a:ext cx="0" cy="45720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terpretazione del Testo e Basi d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estione di testi digita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sto inserito in un DB relazio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ticolazione del tes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tadati 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ssociati al testo nel D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tazioni del t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426708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3962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343400"/>
            <a:ext cx="2743200" cy="762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Fr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5486400"/>
            <a:ext cx="2743200" cy="762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Fras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72428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72428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4800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585792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85792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4724280"/>
            <a:ext cx="152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u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Collo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Pubbl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419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0" idx="3"/>
            <a:endCxn id="289" idx="1"/>
          </p:cNvCxnSpPr>
          <p:nvPr/>
        </p:nvCxnSpPr>
        <p:spPr>
          <a:xfrm>
            <a:off x="2133720" y="5295600"/>
            <a:ext cx="838800" cy="10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7238880" y="4267080"/>
            <a:ext cx="1524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44197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8769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56293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39625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94" idx="3"/>
            <a:endCxn id="307" idx="1"/>
          </p:cNvCxnSpPr>
          <p:nvPr/>
        </p:nvCxnSpPr>
        <p:spPr>
          <a:xfrm>
            <a:off x="5866920" y="4881240"/>
            <a:ext cx="1677240" cy="905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7" idx="3"/>
            <a:endCxn id="305" idx="1"/>
          </p:cNvCxnSpPr>
          <p:nvPr/>
        </p:nvCxnSpPr>
        <p:spPr>
          <a:xfrm flipV="1">
            <a:off x="5866920" y="5033160"/>
            <a:ext cx="1677240" cy="9817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6" idx="2"/>
            <a:endCxn id="307" idx="2"/>
          </p:cNvCxnSpPr>
          <p:nvPr/>
        </p:nvCxnSpPr>
        <p:spPr>
          <a:xfrm flipH="1" flipV="1" rot="5400000">
            <a:off x="5790960" y="3961800"/>
            <a:ext cx="229320" cy="4191840"/>
          </a:xfrm>
          <a:prstGeom prst="bentConnector3">
            <a:avLst>
              <a:gd name="adj1" fmla="val -1000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5562720" y="2819520"/>
            <a:ext cx="2819160" cy="1036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Token </a:t>
            </a:r>
            <a:r>
              <a:rPr b="1" i="1" lang="it-IT" sz="1600" spc="-1" strike="noStrike">
                <a:solidFill>
                  <a:srgbClr val="ff6600"/>
                </a:solidFill>
                <a:latin typeface="Arial"/>
              </a:rPr>
              <a:t>vs.</a:t>
            </a: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il cane mangia il 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types (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can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mangi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topo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lti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9" idx="6"/>
            <a:endCxn id="102" idx="1"/>
          </p:cNvCxnSpPr>
          <p:nvPr/>
        </p:nvCxnSpPr>
        <p:spPr>
          <a:xfrm flipV="1">
            <a:off x="2895120" y="3614400"/>
            <a:ext cx="3310920" cy="1681920"/>
          </a:xfrm>
          <a:prstGeom prst="curvedConnector5">
            <a:avLst>
              <a:gd name="adj1" fmla="val 49488"/>
              <a:gd name="adj2" fmla="val 57782"/>
              <a:gd name="adj3" fmla="val 49488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7" name=""/>
          <p:cNvCxnSpPr>
            <a:stCxn id="99" idx="4"/>
            <a:endCxn id="105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8" name=""/>
          <p:cNvCxnSpPr>
            <a:stCxn id="100" idx="5"/>
            <a:endCxn id="105" idx="7"/>
          </p:cNvCxnSpPr>
          <p:nvPr/>
        </p:nvCxnSpPr>
        <p:spPr>
          <a:xfrm flipH="1" rot="16200000">
            <a:off x="3818520" y="2895480"/>
            <a:ext cx="1896480" cy="38106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9" name=""/>
          <p:cNvCxnSpPr>
            <a:stCxn id="99" idx="6"/>
            <a:endCxn id="104" idx="3"/>
          </p:cNvCxnSpPr>
          <p:nvPr/>
        </p:nvCxnSpPr>
        <p:spPr>
          <a:xfrm flipV="1">
            <a:off x="2895120" y="4461840"/>
            <a:ext cx="4682520" cy="83412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1" idx="6"/>
            <a:endCxn id="124" idx="1"/>
          </p:cNvCxnSpPr>
          <p:nvPr/>
        </p:nvCxnSpPr>
        <p:spPr>
          <a:xfrm flipV="1">
            <a:off x="2895120" y="3614400"/>
            <a:ext cx="3310920" cy="1681920"/>
          </a:xfrm>
          <a:prstGeom prst="curvedConnector5">
            <a:avLst>
              <a:gd name="adj1" fmla="val 49488"/>
              <a:gd name="adj2" fmla="val 57782"/>
              <a:gd name="adj3" fmla="val 49488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29" name=""/>
          <p:cNvCxnSpPr>
            <a:stCxn id="121" idx="4"/>
            <a:endCxn id="127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30" name=""/>
          <p:cNvCxnSpPr>
            <a:stCxn id="121" idx="6"/>
            <a:endCxn id="126" idx="3"/>
          </p:cNvCxnSpPr>
          <p:nvPr/>
        </p:nvCxnSpPr>
        <p:spPr>
          <a:xfrm flipV="1">
            <a:off x="2895120" y="4461840"/>
            <a:ext cx="4682520" cy="83412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1" idx="3"/>
            <a:endCxn id="133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2" idx="5"/>
            <a:endCxn id="125" idx="0"/>
          </p:cNvCxnSpPr>
          <p:nvPr/>
        </p:nvCxnSpPr>
        <p:spPr>
          <a:xfrm flipH="1" rot="16200000">
            <a:off x="4518720" y="2195280"/>
            <a:ext cx="1558080" cy="4872600"/>
          </a:xfrm>
          <a:prstGeom prst="curvedConnector5">
            <a:avLst>
              <a:gd name="adj1" fmla="val 51051"/>
              <a:gd name="adj2" fmla="val 50000"/>
              <a:gd name="adj3" fmla="val 51051"/>
            </a:avLst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4"/>
            <a:endCxn id="149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1" idx="3"/>
            <a:endCxn id="153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/>
          <p:nvPr/>
        </p:nvCxnSpPr>
        <p:spPr>
          <a:xfrm flipH="1" rot="16200000">
            <a:off x="4552920" y="2228760"/>
            <a:ext cx="1558080" cy="4872600"/>
          </a:xfrm>
          <a:prstGeom prst="curvedConnector5">
            <a:avLst>
              <a:gd name="adj1" fmla="val 51051"/>
              <a:gd name="adj2" fmla="val 50000"/>
              <a:gd name="adj3" fmla="val 51051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59" name=""/>
          <p:cNvCxnSpPr>
            <a:stCxn id="147" idx="2"/>
            <a:endCxn id="142" idx="5"/>
          </p:cNvCxnSpPr>
          <p:nvPr/>
        </p:nvCxnSpPr>
        <p:spPr>
          <a:xfrm rot="10800000">
            <a:off x="1718640" y="4309200"/>
            <a:ext cx="5901480" cy="121536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u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4" idx="4"/>
            <a:endCxn id="170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2" idx="3"/>
            <a:endCxn id="174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5" idx="5"/>
            <a:endCxn id="169" idx="1"/>
          </p:cNvCxnSpPr>
          <p:nvPr/>
        </p:nvCxnSpPr>
        <p:spPr>
          <a:xfrm flipH="1" rot="16200000">
            <a:off x="4995000" y="1719000"/>
            <a:ext cx="448560" cy="471564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80" name=""/>
          <p:cNvCxnSpPr>
            <a:stCxn id="168" idx="2"/>
            <a:endCxn id="163" idx="5"/>
          </p:cNvCxnSpPr>
          <p:nvPr/>
        </p:nvCxnSpPr>
        <p:spPr>
          <a:xfrm rot="10800000">
            <a:off x="1718640" y="4309200"/>
            <a:ext cx="5901480" cy="121536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Molti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Ogni associazione molti a molti genera una tab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ferimenti (chiavi esterne) alle tabelle che traducono le classi coinvol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ventuali attributi dell’associ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chiave della tabella deve includere le chiavi ester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6782040" cy="117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752480" cy="839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3520" y="5029200"/>
            <a:ext cx="1447560" cy="70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124080" y="5105520"/>
            <a:ext cx="2590920" cy="96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5562720"/>
            <a:ext cx="19810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715000"/>
            <a:ext cx="26672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enerano chiavi ester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iascuna istanza dell’associazione è identificata dall’oggetto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hiave esterna della tabella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la tabella corrispondente alla classe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5943600" cy="11048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38680" y="5257800"/>
            <a:ext cx="144792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828800" y="4876920"/>
            <a:ext cx="1600200" cy="10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3200" y="5791320"/>
            <a:ext cx="28954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638680"/>
            <a:ext cx="1295280" cy="3812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Uno-a-U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iscorso simile a quelle uno-a-mol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sso scegliere dove mettere la chiave este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ferisce un lato in cui la card. min. è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43400" cy="981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00200" y="5029200"/>
            <a:ext cx="1752480" cy="101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715000" y="4648320"/>
            <a:ext cx="1295280" cy="1014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33720" y="5486400"/>
            <a:ext cx="35812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12952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8:39:40Z</dcterms:created>
  <dc:creator>Alessandro Lenci</dc:creator>
  <dc:description/>
  <dc:language>en-US</dc:language>
  <cp:lastModifiedBy>Alessandro Lenci</cp:lastModifiedBy>
  <dcterms:modified xsi:type="dcterms:W3CDTF">2007-12-13T20:58:19Z</dcterms:modified>
  <cp:revision>33</cp:revision>
  <dc:subject/>
  <dc:title>Informatica per le Scienze Umane laboratorio</dc:title>
</cp:coreProperties>
</file>